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8.jpeg" ContentType="image/jpeg"/>
  <Override PartName="/ppt/media/image5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9.jpeg" ContentType="image/jpeg"/>
  <Override PartName="/ppt/media/image11.jpeg" ContentType="image/jpeg"/>
  <Override PartName="/ppt/media/image6.jpeg" ContentType="image/jpeg"/>
  <Override PartName="/ppt/media/image12.jpeg" ContentType="image/jpeg"/>
  <Override PartName="/ppt/media/image4.png" ContentType="image/png"/>
  <Override PartName="/ppt/media/image13.jpeg" ContentType="image/jpeg"/>
  <Override PartName="/ppt/media/image30.gif" ContentType="image/gif"/>
  <Override PartName="/ppt/media/image14.jpeg" ContentType="image/jpeg"/>
  <Override PartName="/ppt/media/image28.png" ContentType="image/png"/>
  <Override PartName="/ppt/media/image7.jpeg" ContentType="image/jpeg"/>
  <Override PartName="/ppt/media/image1.wmf" ContentType="image/x-wmf"/>
  <Override PartName="/ppt/media/image24.jpeg" ContentType="image/jpeg"/>
  <Override PartName="/ppt/media/image16.jpeg" ContentType="image/jpeg"/>
  <Override PartName="/ppt/media/image27.jpeg" ContentType="image/jpeg"/>
  <Override PartName="/ppt/media/image17.gif" ContentType="image/gif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10.jpeg" ContentType="image/jpeg"/>
  <Override PartName="/ppt/media/image21.gif" ContentType="image/gif"/>
  <Override PartName="/ppt/media/image22.jpeg" ContentType="image/jpeg"/>
  <Override PartName="/ppt/media/image23.jpeg" ContentType="image/jpeg"/>
  <Override PartName="/ppt/media/image26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B89E-FACF-44AE-9D3F-2B02DA29C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DC20-FAC2-419F-8F2D-2865A464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1E33A3-AC8D-4DC0-B36C-8DBBAA7B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C8C78C-8F6B-4E9F-B192-E629E6D5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F42D8F-E244-4140-AEE2-F2BCE0F9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E66D3E-0A3A-44E2-B196-BC3C6EA7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F1A4E0-3E0F-4485-A01B-5B632553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2A901-187C-423F-9E49-20A14BC6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1B81C-BDBA-4DEB-8B34-7C8133F0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2C5A35-0657-4858-B050-7351E84A5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9735BC-E43F-4238-B54E-B2FAA4E4B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BD7C4A-69E0-4D14-998D-F6642D756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A263-AD54-4EF5-9D63-E43B7DEBC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35BB96-D7B4-4548-8614-402D8CCC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227528-8C68-47A5-AB03-6C6947C6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C1C6DF-FE6B-4171-A0DD-3B35BC50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9E5169-DB8C-4815-AE25-6B449DEC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29E3C7-109E-4989-99E9-92BD160B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EB6611-07D9-4295-8FDB-0B4BFF37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F33137-05B0-4FC0-A488-1253C318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9ABAEB-869A-492D-AD01-398F7433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028258-5B5E-4C75-B893-DCE0BAC3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5A983E-0904-4AA4-A2CB-C94ED2177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F9AA-2505-4450-B376-12740B47E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5B5C29-D82A-487E-9F61-388EA4F94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D3BF7-83A9-4227-B2C5-406620106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25800E-2285-45F1-A335-C8F570E8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D7EC9-C47E-4940-B2C8-35B66980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9B7A05-307E-4012-B22A-93719D83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E379A-7C30-4DA8-91BB-63329BB9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BCEEC-9AF3-4F72-8E47-9C4E1976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7E92AA-B6CC-40D9-B470-ECB8143B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363130-320A-4AB3-A176-41F0345E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C01F7-61ED-4007-92F3-CF615D5C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533B-AF4A-4B16-8869-50B0E4C08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AAE91-2510-4024-86A3-38B5BD19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930F2-E3A1-43AA-8D47-60914FA22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6424A-A8AE-4CBB-A4C5-9F3EC92E0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CBDC4D-6989-44C5-86EF-277E4BFD0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6DDB56-5870-442B-BE9C-DB7592AA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3FBF83-9E96-4FFD-85C1-C9C61EEE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3D23C2-8C06-4EDC-BA70-8D006DB3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569325-760D-4421-9327-133EFDD3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C02980-7B65-4D17-B9A8-282191D6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075D3D-3843-4D68-8C26-FB1BD574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FC68-A754-4187-BF96-C4FCF310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674A54-EDCF-4FB2-8C1F-5226AD4B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125C69-F0A3-4829-ABE8-7803943F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100304-85FD-4812-A8AD-6E7EB728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1DA6F8-E38A-4A36-980F-1F3373C01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E80032-1DE6-474F-9281-D17F2DEF0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FFB6D7-3DAF-45E8-BF61-3E7660464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84FF07-90C7-46E9-9E11-4F559FE0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C30B8F-9C83-42F4-A84B-2C9D85B3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FB243A-1D47-49C9-BA97-DE40A2E7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5D4E34-6177-483F-94FB-A087BBD0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4EEA4-C064-4D41-B61E-C42B508B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0A3BE1-2094-4339-82C1-D89292FC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854756-FDBD-4566-A8FE-9540D871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3CF472-4F20-4FE5-85F2-857D3A4B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DBF8A0-5AD3-45EA-8DCF-FFD7E1F2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4DF3B5-8B2E-4409-ABE2-0966E028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97E041-062C-4025-BCA1-CE3731D52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EA2215-0A24-496A-BA82-04C294086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D3138D-68BB-4240-B5D6-D7D49EF89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551BA6-019E-43AC-9915-95C2E246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01444D-CFEF-4E77-A1B4-D5F6D624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6495-7C75-400C-876A-F524FFEB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14A4C6-A013-4DC0-A547-152F493A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413287-2F58-47B8-A9FE-1CEF59BD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373BBE-BDA9-4DA1-82C4-83BF6092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5B7762-2614-4C80-BD85-44F1141C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299C29-DA3A-4BCC-BF10-2AE651A9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84B2C6-0093-42E4-81B3-5C83BC4F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2F52BE-373C-4054-B1B8-274C7E21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9D8805-7662-484A-B1F9-88DD02957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71BCB9-FED9-472C-A426-2E4C68AEE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7C4443-55CD-4A33-A8FC-F2F79E661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6081-28E3-431A-B1E4-C0CC4620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6B35E9-5740-471D-A279-6BD5FE6B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BDDE2B-C8C6-41EF-92CB-5590DE38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E9FD2B-3488-418E-B7E4-13324452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F16F29-EC4A-47BD-BAB9-76F99220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1F2B68-BB36-4B62-A2AC-612ACC06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07A00B-AACC-4CEE-81CF-0DC91FEC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03CED7-CD35-44E4-B80F-29F2FD83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9502BC-C1A5-42BE-BD92-C020821A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592E80-EFC3-422A-B9B1-9CD1D52B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40F9ED-B924-4B53-9F65-2EAFB97D7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880D-A8FA-46AF-A193-49010BE0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A360CB-C239-458D-A84E-0685E9BE9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0B3E31-055E-4C43-BB83-C6C09E469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0C2132-A62B-4A8B-95B2-45688654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BD76D2-6806-4ABC-B87F-C2ABA1C6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546CA4-4DB6-4CE9-A098-312D791D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BFEAFF-B1A8-4E5C-8885-E007B1F0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4B28DA-4103-43A9-9CCF-CB462407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3F8653-73AA-4496-B15B-BD81F490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0E01F1-BA0B-4270-9280-1721F15F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395073-B4BB-4251-BF2A-9A103F6A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3674-7126-46E3-925C-84F76F44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08D44E-ADB3-43B2-8D97-1E66F96F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5FCB3D-6819-40CF-894F-5928E1F28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D598DD-913C-4D18-8C83-5F45648BB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3A374A-A786-43E8-9080-FD3FD0357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90DF8A-D68E-45C9-8FC8-25763EAF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397335-AA97-4760-9F63-2A4EE97E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B9BBA1-5546-446C-9DA9-5192850C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98AC8A-B6E7-41C7-A7DD-CBF238B4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648545-1F92-4146-88DA-17DE4C1E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E8E8C9-5FB4-413A-AD7C-02A0F69E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0BB8-F12D-4521-81BD-5B19F36B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5CC9-85BF-47B2-95ED-1D7C15F6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CE74C9-ACDA-40CA-9008-AC7BE757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976D12-ED8C-4FBC-88E1-E085E3BF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AE9E43-43BC-4A2F-B0CC-EC6D355B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B3120F-D137-4223-B17D-8C8DF0486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757E65-2060-4B91-973F-031A8995E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9ABA66-474A-47DA-ACB5-6248B38B9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C60088-06EE-4FC6-A13A-CF94486E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E5AF28-D867-4A1B-A649-E8DF81C5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93E99B-8112-48A1-875A-36CDE6D4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92F08F-E3DB-42B5-8E4F-9E495E44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4368-38F0-4026-A37B-462E286E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4B16AC-F81A-4A73-A906-06362434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A2E96C-FD8C-4B18-A9B3-0657D110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6012E4-95F4-4190-983F-4A59DF95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E38694-127D-48A7-AA7C-15110D13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1C3141-C0F5-45C7-B79D-EE32F6D6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BAD6BD-6BBE-45F8-83FF-B760A2FD1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3BCF6F-4A38-493A-A239-B924D4361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183F-AC53-419B-B455-1846D372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42BA-80B9-434C-92CF-FB9741E55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0B35-49D9-463B-ABE8-7A50380E7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473F4-13E6-4551-A25B-05959486B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A30C4-6588-4021-8DF9-D5800945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2846C-65F1-4895-B95F-4B805312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14666-7AB4-4B57-8C82-DF0B7A84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79136-1F42-4E70-8090-98E159C8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4E74-3E9B-4656-AE9B-94BACB85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E1DAF-75FA-4869-8212-BFBC820F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34392-1CE7-485F-845B-1EC920A5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2686F-F8B7-4D8B-BD8E-9421626D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548D1-0D53-4CFA-BFB3-E3E21287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8F120-901C-4469-B06E-E44162CA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0422C-8E1A-4532-8C93-9201DA578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A4E63-2031-4AD3-9144-4E4652A77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ABCF9-A86A-4259-815A-105572CF9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5F494-E748-44E9-9DCB-1A41AB62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EEA17-FC54-48BA-9F99-760FBEE6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818F-EB71-4743-9F56-F37E48A8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A54ED-A935-463A-9BF3-175D10C5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FD0CC-9293-4F3A-9DD6-84196720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8CEF0-CF7C-49DD-B7FD-649F112E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F4A87-FC6D-407C-AFC7-37EFCDB4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B7F92-9661-4015-9A41-3CD2F14D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9A66F-5046-42DF-91AB-49B33161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A0042-615C-4BF7-BF8D-DF1CD19E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542C4-7F5C-4E91-9B54-E89D6D8CA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81ED0-38A5-4D7B-9890-0D7A06E05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0FEE2-23F2-4F75-8641-DB81E7E7E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42E5-8D09-4491-ACC8-31479640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FCDEE-CD62-4B22-9680-5FB28952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A9BEA-760C-43A6-837C-BFF5FABC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40437-3B77-4509-B83C-1FDCAB8C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DE475-B2C3-463A-A847-9FE4B7B43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2CD06-4763-4B64-84ED-16C8F675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2F076-AE24-4900-9511-C9F22FA7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AD967-C269-44D5-8F24-4C4B51DF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8285F-15F4-4082-A2F5-7812FB26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59008-1463-4AA4-8C49-597ABBEA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AD5A1-2CFE-4E4B-81E6-C7F44E442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043C-9152-4896-88CF-C691AE93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EE60E-8D4E-4EC3-B501-74C39E979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DC767-F5E5-48A8-B345-6E0F90AAB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C712E-14EC-400D-B108-30285D00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99D7A-C97E-46F6-A85A-D5E54B8C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C8329-AB47-49E4-949C-EFBA3FF7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45660-7416-4213-A5DC-CE635EFF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131EA-0CF6-4F37-9E12-BB8817EC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0B42A-F639-4703-98EB-C212A274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86B15-FBAB-4E5A-8F96-7548F38F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ADC9B-21B6-4E27-A857-783E2610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9CDF-E57F-4367-8738-D677D853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F6398-5B32-41CC-9192-15FF879D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D22EE-92E3-449A-BC0F-3192ADCD4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CD90B-3E3F-4BBE-B40C-F4D123D21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884E5-FB26-409C-9B2C-22C5E3F39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1FC4B-7C18-49B4-8EBB-7AF54379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97D47-5C4C-4293-8334-B5A57EA7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BECC8-ADC4-4E01-BC9D-6AA4E719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38116-8829-45DF-8AE7-4C7EA349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DC093-784A-499A-A40E-4173592D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364BB-99C3-4600-963B-F51A52FD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0CE1-BCB6-4B6E-8EA9-B57AE1B2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8CFAD-8C2E-4A8C-9D28-E8EF11F8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B3263-18FF-49CA-AAD6-FCA074EA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3E0D1-4906-4BD6-8774-4C235C64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17FBF-A69B-4074-A67E-392EE8731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BD0E0-F50E-47B8-8E40-EAF67C309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BBC27-ECA3-4CF9-80D4-513A5651C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0C6CC-250B-41BE-8C2E-B2960BBE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96F01-AAAB-4420-B604-F0ED38D7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2D339-C8C6-45A5-B83D-5F77DD70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6AE21-DEEA-4836-B1B8-A41298BA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27E3-886E-4F71-9FE7-D220925F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B6B93-E4FF-40FF-A397-840EBED2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31956-547C-4E15-B671-B7B6496C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0E86D-109C-491D-A8A5-D4B25393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4D3FB-AC55-44AA-8308-17D0662C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F41C8-B7EF-474A-805D-40EA9013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99AEB-91A7-4F50-84C5-9F1F11028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C4C50-6E68-4775-A445-08CFB16E1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1B4140-DE18-4821-A7BB-2B342F0CA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6F0F7-D6FF-4FE6-A880-6BA6F8CF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0C8DF9-E7BF-4190-AA46-6F6E7BED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9FAD-936E-472D-A6E9-4CCB03F1C0F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86DB-3B62-4ABA-B937-2A5D187AB7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2338-4FA8-48FD-8F5D-7B77373D68F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73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0278-9211-4474-883B-F1D7959DC8A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946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015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02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F46E-7AB3-4F4B-B3BF-0302977FFE4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1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062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068" name="PlaceHolder 1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8790-14A8-458B-814F-7109FD05BF7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8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109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1254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255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1268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269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1282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283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1296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297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1310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1311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1324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1325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1338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1339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340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1341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 type="dt" idx="43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 type="ftr" idx="44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 type="sldNum" idx="45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A9BE-2993-4FC0-A2C4-C5A5BFC88E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396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1397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1410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1411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 type="dt" idx="46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 type="ftr" idx="4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290A-B98C-41BE-9175-3165CA8930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0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1561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61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pic>
          <p:nvPicPr>
            <p:cNvPr id="161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 type="dt" idx="49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PlaceHolder 5"/>
          <p:cNvSpPr>
            <a:spLocks noGrp="1"/>
          </p:cNvSpPr>
          <p:nvPr>
            <p:ph type="sldNum" idx="51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47D5-C509-46B4-B2D1-B7527D0AAE3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655" name="PlaceHolder 1"/>
          <p:cNvSpPr>
            <a:spLocks noGrp="1"/>
          </p:cNvSpPr>
          <p:nvPr>
            <p:ph type="dt" idx="5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 type="sldNum" idx="5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35AD-AA54-415B-972E-2247468BCD5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00DE-72DD-45F2-91AE-2B4D9948670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93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94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97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00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203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07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26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35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7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38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41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47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9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50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2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53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56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8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59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1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62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4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7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grpSp>
              <p:nvGrpSpPr>
                <p:cNvPr id="272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73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5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8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1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82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4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0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94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9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00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2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05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4898-5718-4F2A-9DF8-257E1A212E29}" type="slidenum"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69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70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73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74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7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78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79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1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82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4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85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7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88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0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91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3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94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6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97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400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2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403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5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406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8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409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1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12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4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15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7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18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0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21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3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24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27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9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30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2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33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5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36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7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8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39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0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41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43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44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6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47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9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50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2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53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5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56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8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59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1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62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3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4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65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7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68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0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71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2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3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74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5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76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77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78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5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6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87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893D-30E4-4320-95F9-0FB2A4D5E714}" type="slidenum"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42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43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46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E073-CC72-4B11-AFC0-A03901C805F1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9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9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95" name="PlaceHolder 1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sldNum" idx="1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46CD-3154-4854-BDFD-3A9D24EA5B2A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834D-A48D-401A-8001-00A1BE6182E2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44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653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54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8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661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70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71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74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75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676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77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5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5C56-86E6-456F-9C88-D9ED8670FF90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728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731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732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grpSp>
        <p:nvGrpSpPr>
          <p:cNvPr id="737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738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741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742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747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21AA-9876-4E3A-9468-748D3DF2BB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news.92wy.com/News/content/2004-9-3/164520E-02.shtml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www.rd88.cn/info/53/2004-5/2182.htm" TargetMode="External"/><Relationship Id="rId4" Type="http://schemas.openxmlformats.org/officeDocument/2006/relationships/image" Target="../media/image19.jpeg"/><Relationship Id="rId5" Type="http://schemas.openxmlformats.org/officeDocument/2006/relationships/hyperlink" Target="http://www.99color.net/cpic.asp?m=1&amp;pt=12&amp;t=3&amp;t1=4" TargetMode="External"/><Relationship Id="rId6" Type="http://schemas.openxmlformats.org/officeDocument/2006/relationships/image" Target="../media/image20.jpeg"/><Relationship Id="rId7" Type="http://schemas.openxmlformats.org/officeDocument/2006/relationships/hyperlink" Target="http://img.caishow.com/MMS/10300003/1.asp?f=534&amp;menu=yes" TargetMode="External"/><Relationship Id="rId8" Type="http://schemas.openxmlformats.org/officeDocument/2006/relationships/image" Target="../media/image21.gif"/><Relationship Id="rId9" Type="http://schemas.openxmlformats.org/officeDocument/2006/relationships/hyperlink" Target="http://www.91hgame.com/gamesort.php?page=1&amp;gamefl=&#26684;&#26007;&#31867;" TargetMode="External"/><Relationship Id="rId10" Type="http://schemas.openxmlformats.org/officeDocument/2006/relationships/image" Target="../media/image22.jpeg"/><Relationship Id="rId11" Type="http://schemas.openxmlformats.org/officeDocument/2006/relationships/hyperlink" Target="http://hbgzs.1a.cn/html/qi_long_zhu/images.html" TargetMode="External"/><Relationship Id="rId12" Type="http://schemas.openxmlformats.org/officeDocument/2006/relationships/image" Target="../media/image23.jpeg"/><Relationship Id="rId13" Type="http://schemas.openxmlformats.org/officeDocument/2006/relationships/image" Target="../media/image24.jpeg"/><Relationship Id="rId14" Type="http://schemas.openxmlformats.org/officeDocument/2006/relationships/image" Target="../media/image25.jpeg"/><Relationship Id="rId15" Type="http://schemas.openxmlformats.org/officeDocument/2006/relationships/image" Target="../media/image26.jpeg"/><Relationship Id="rId16" Type="http://schemas.openxmlformats.org/officeDocument/2006/relationships/image" Target="../media/image27.jpeg"/><Relationship Id="rId17" Type="http://schemas.openxmlformats.org/officeDocument/2006/relationships/slideLayout" Target="../slideLayouts/slideLayout14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9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ames.sina.com.cn/newgames/2004/05/051120863.shtml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pladaily.com.cn/item1/nmd60/bjzl/18.htm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jpeg"/><Relationship Id="rId3" Type="http://schemas.openxmlformats.org/officeDocument/2006/relationships/hyperlink" Target="http://www.zj60.com/gb/node2/node138671/node149975/node166504/node167205/userobject15ai3364306.html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9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210.40.32.30/dx/ds/dsrw/13lbc.htm" TargetMode="External"/><Relationship Id="rId2" Type="http://schemas.openxmlformats.org/officeDocument/2006/relationships/image" Target="../media/image15.png"/><Relationship Id="rId3" Type="http://schemas.openxmlformats.org/officeDocument/2006/relationships/hyperlink" Target="http://www.51ting.com/zhuanti/dxp/jj.htm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2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684000" y="981000"/>
            <a:ext cx="696564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e0bad"/>
                </a:solidFill>
                <a:latin typeface="华文中宋"/>
                <a:ea typeface="华文中宋"/>
              </a:rPr>
              <a:t>学会坚强  学会成长</a:t>
            </a:r>
            <a:br>
              <a:rPr sz="6000"/>
            </a:br>
            <a:r>
              <a:rPr b="1" lang="zh-CN" sz="6000" spc="-1" strike="noStrike">
                <a:solidFill>
                  <a:srgbClr val="2e0bad"/>
                </a:solidFill>
                <a:latin typeface="华文中宋"/>
                <a:ea typeface="华文中宋"/>
              </a:rPr>
              <a:t>         </a:t>
            </a:r>
            <a:endParaRPr b="0" lang="en-US" sz="6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2222"/>
                </a:solidFill>
                <a:latin typeface="华文行楷"/>
                <a:ea typeface="华文行楷"/>
              </a:rPr>
              <a:t>            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2f1311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-1.66667E-006 1.48148E-006 C 0.00643 -0.01343 0.01302 -0.02801 0.01945 -0.04676 C 0.03698 -0.1 0.04167 -0.15208 0.02882 -0.15996 C 0.0158 -0.16945 -0.00937 -0.13195 -0.02673 -0.07871 C -0.03628 -0.0507 -0.04166 -0.02408 -0.04357 -0.00394 C -0.04635 0.01204 -0.04722 0.02801 -0.04722 0.04676 C -0.04722 0.10671 -0.03524 0.15602 -0.02118 0.15602 C -0.00746 0.15602 0.00452 0.10671 0.00452 0.04676 C 0.00452 0.01875 0.00191 -0.0081 -0.00278 -0.02662 C -0.00469 -0.04259 -0.00937 -0.05996 -0.01476 -0.07732 C -0.03333 -0.13195 -0.05833 -0.16945 -0.07135 -0.15996 C -0.0842 -0.1507 -0.07951 -0.1 -0.06111 -0.04537 C -0.05364 -0.01991 -0.04357 0.00139 -0.03333 0.01597 C -0.02587 0.0294 -0.01753 0.04143 -0.00642 0.05324 C 0.02691 0.0919 0.06007 0.10926 0.06945 0.09329 C 0.07778 0.07731 0.05938 0.03333 0.02587 -0.00394 C 0.01215 -0.01991 -0.00278 -0.03195 -0.01476 -0.04005 C -0.02587 -0.04792 -0.03993 -0.05463 -0.05469 -0.05857 C -0.09531 -0.07199 -0.13055 -0.06806 -0.13316 -0.04676 C -0.1368 -0.02662 -0.10642 1.48147999999917E-006 -0.0658 0.01342 C -0.04722 0.01875 -0.02951 0.02129 -0.0158 0.01991 C -0.00364 0.01991 0.00938 0.01736 0.02309 0.01342 C 0.06372 1.48147999999917E-006 0.09462 -0.02801 0.09063 -0.04792 C 0.08785 -0.06806 0.05261 -0.07338 0.01215 -0.05996 C -0.00746 -0.05324 -0.02517 -0.04398 -0.03698 -0.03333 C -0.04722 -0.02523 -0.05746 -0.01597 -0.0684 -0.00394 C -0.10087 0.03472 -0.12031 0.07731 -0.11111 0.09329 C -0.10278 0.10926 -0.0684 0.0919 -0.03628 0.05463 C -0.02031 0.03611 -0.00746 0.01736 -1.66667E-006 1.48148E-006 Z">
                                      <p:cBhvr>
                                        <p:cTn id="6" dur="2000" fill="hold"/>
                                        <p:tgtEl>
                                          <p:spTgt spid="16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7" fill="hold"/>
                                        <p:tgtEl>
                                          <p:spTgt spid="1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"/>
          <p:cNvSpPr/>
          <p:nvPr/>
        </p:nvSpPr>
        <p:spPr>
          <a:xfrm>
            <a:off x="179280" y="304920"/>
            <a:ext cx="86677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1311"/>
                </a:solidFill>
                <a:latin typeface="Times New Roman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2f1311"/>
                </a:solidFill>
                <a:latin typeface="华文中宋"/>
                <a:ea typeface="华文中宋"/>
              </a:rPr>
              <a:t>每次考试成绩不理想，或是遇到什么挫折，我们有些同学就萎靡不振，哀叹自己是世界上最不幸的人，有的同学还想到离家出走，甚至产生轻生念头。每到此时，我就会想起一个人来：</a:t>
            </a:r>
            <a:r>
              <a:rPr b="1" lang="zh-CN" sz="2800" spc="-1" strike="noStrike">
                <a:solidFill>
                  <a:srgbClr val="2e0bad"/>
                </a:solidFill>
                <a:latin typeface="华文中宋"/>
                <a:ea typeface="华文中宋"/>
              </a:rPr>
              <a:t>他</a:t>
            </a:r>
            <a:r>
              <a:rPr b="1" lang="zh-CN" sz="2800" spc="-1" strike="noStrike">
                <a:solidFill>
                  <a:srgbClr val="2e0bad"/>
                </a:solidFill>
                <a:latin typeface="华文中宋"/>
                <a:ea typeface="华文中宋"/>
              </a:rPr>
              <a:t>22</a:t>
            </a:r>
            <a:r>
              <a:rPr b="1" lang="zh-CN" sz="2800" spc="-1" strike="noStrike">
                <a:solidFill>
                  <a:srgbClr val="2e0bad"/>
                </a:solidFill>
                <a:latin typeface="华文中宋"/>
                <a:ea typeface="华文中宋"/>
              </a:rPr>
              <a:t>岁生意失败，</a:t>
            </a:r>
            <a:r>
              <a:rPr b="1" lang="zh-CN" sz="2800" spc="-1" strike="noStrike">
                <a:solidFill>
                  <a:srgbClr val="2e0bad"/>
                </a:solidFill>
                <a:latin typeface="华文中宋"/>
                <a:ea typeface="华文中宋"/>
              </a:rPr>
              <a:t>23</a:t>
            </a:r>
            <a:r>
              <a:rPr b="1" lang="zh-CN" sz="2800" spc="-1" strike="noStrike">
                <a:solidFill>
                  <a:srgbClr val="2e0bad"/>
                </a:solidFill>
                <a:latin typeface="华文中宋"/>
                <a:ea typeface="华文中宋"/>
              </a:rPr>
              <a:t>岁竞选州议员失败，</a:t>
            </a:r>
            <a:r>
              <a:rPr b="1" lang="zh-CN" sz="2800" spc="-1" strike="noStrike">
                <a:solidFill>
                  <a:srgbClr val="2e0bad"/>
                </a:solidFill>
                <a:latin typeface="华文中宋"/>
                <a:ea typeface="华文中宋"/>
              </a:rPr>
              <a:t>24</a:t>
            </a:r>
            <a:r>
              <a:rPr b="1" lang="zh-CN" sz="2800" spc="-1" strike="noStrike">
                <a:solidFill>
                  <a:srgbClr val="2e0bad"/>
                </a:solidFill>
                <a:latin typeface="华文中宋"/>
                <a:ea typeface="华文中宋"/>
              </a:rPr>
              <a:t>岁生意再次失败，</a:t>
            </a:r>
            <a:r>
              <a:rPr b="1" lang="zh-CN" sz="2800" spc="-1" strike="noStrike">
                <a:solidFill>
                  <a:srgbClr val="2e0bad"/>
                </a:solidFill>
                <a:latin typeface="华文中宋"/>
                <a:ea typeface="华文中宋"/>
              </a:rPr>
              <a:t>25</a:t>
            </a:r>
            <a:r>
              <a:rPr b="1" lang="zh-CN" sz="2800" spc="-1" strike="noStrike">
                <a:solidFill>
                  <a:srgbClr val="2e0bad"/>
                </a:solidFill>
                <a:latin typeface="华文中宋"/>
                <a:ea typeface="华文中宋"/>
              </a:rPr>
              <a:t>岁当选州议员，</a:t>
            </a:r>
            <a:r>
              <a:rPr b="1" lang="zh-CN" sz="2800" spc="-1" strike="noStrike">
                <a:solidFill>
                  <a:srgbClr val="2e0bad"/>
                </a:solidFill>
                <a:latin typeface="华文中宋"/>
                <a:ea typeface="华文中宋"/>
              </a:rPr>
              <a:t>26</a:t>
            </a:r>
            <a:r>
              <a:rPr b="1" lang="zh-CN" sz="2800" spc="-1" strike="noStrike">
                <a:solidFill>
                  <a:srgbClr val="2e0bad"/>
                </a:solidFill>
                <a:latin typeface="华文中宋"/>
                <a:ea typeface="华文中宋"/>
              </a:rPr>
              <a:t>岁情人去世，</a:t>
            </a:r>
            <a:r>
              <a:rPr b="1" lang="zh-CN" sz="2800" spc="-1" strike="noStrike">
                <a:solidFill>
                  <a:srgbClr val="2e0bad"/>
                </a:solidFill>
                <a:latin typeface="华文中宋"/>
                <a:ea typeface="华文中宋"/>
              </a:rPr>
              <a:t>27</a:t>
            </a:r>
            <a:r>
              <a:rPr b="1" lang="zh-CN" sz="2800" spc="-1" strike="noStrike">
                <a:solidFill>
                  <a:srgbClr val="2e0bad"/>
                </a:solidFill>
                <a:latin typeface="华文中宋"/>
                <a:ea typeface="华文中宋"/>
              </a:rPr>
              <a:t>岁精神崩溃，</a:t>
            </a:r>
            <a:r>
              <a:rPr b="1" lang="zh-CN" sz="2800" spc="-1" strike="noStrike">
                <a:solidFill>
                  <a:srgbClr val="2e0bad"/>
                </a:solidFill>
                <a:latin typeface="华文中宋"/>
                <a:ea typeface="华文中宋"/>
              </a:rPr>
              <a:t>29</a:t>
            </a:r>
            <a:r>
              <a:rPr b="1" lang="zh-CN" sz="2800" spc="-1" strike="noStrike">
                <a:solidFill>
                  <a:srgbClr val="2e0bad"/>
                </a:solidFill>
                <a:latin typeface="华文中宋"/>
                <a:ea typeface="华文中宋"/>
              </a:rPr>
              <a:t>岁竞选州议长失败，</a:t>
            </a:r>
            <a:r>
              <a:rPr b="1" lang="zh-CN" sz="2800" spc="-1" strike="noStrike">
                <a:solidFill>
                  <a:srgbClr val="2e0bad"/>
                </a:solidFill>
                <a:latin typeface="华文中宋"/>
                <a:ea typeface="华文中宋"/>
              </a:rPr>
              <a:t>31</a:t>
            </a:r>
            <a:r>
              <a:rPr b="1" lang="zh-CN" sz="2800" spc="-1" strike="noStrike">
                <a:solidFill>
                  <a:srgbClr val="2e0bad"/>
                </a:solidFill>
                <a:latin typeface="华文中宋"/>
                <a:ea typeface="华文中宋"/>
              </a:rPr>
              <a:t>岁竞选选举人团失败，</a:t>
            </a:r>
            <a:r>
              <a:rPr b="1" lang="zh-CN" sz="2800" spc="-1" strike="noStrike">
                <a:solidFill>
                  <a:srgbClr val="2e0bad"/>
                </a:solidFill>
                <a:latin typeface="华文中宋"/>
                <a:ea typeface="华文中宋"/>
              </a:rPr>
              <a:t>34</a:t>
            </a:r>
            <a:r>
              <a:rPr b="1" lang="zh-CN" sz="2800" spc="-1" strike="noStrike">
                <a:solidFill>
                  <a:srgbClr val="2e0bad"/>
                </a:solidFill>
                <a:latin typeface="华文中宋"/>
                <a:ea typeface="华文中宋"/>
              </a:rPr>
              <a:t>岁竞选国会议员失败，</a:t>
            </a:r>
            <a:r>
              <a:rPr b="1" lang="zh-CN" sz="2800" spc="-1" strike="noStrike">
                <a:solidFill>
                  <a:srgbClr val="2e0bad"/>
                </a:solidFill>
                <a:latin typeface="华文中宋"/>
                <a:ea typeface="华文中宋"/>
              </a:rPr>
              <a:t>37</a:t>
            </a:r>
            <a:r>
              <a:rPr b="1" lang="zh-CN" sz="2800" spc="-1" strike="noStrike">
                <a:solidFill>
                  <a:srgbClr val="2e0bad"/>
                </a:solidFill>
                <a:latin typeface="华文中宋"/>
                <a:ea typeface="华文中宋"/>
              </a:rPr>
              <a:t>岁当选国会议员，</a:t>
            </a:r>
            <a:r>
              <a:rPr b="1" lang="zh-CN" sz="2800" spc="-1" strike="noStrike">
                <a:solidFill>
                  <a:srgbClr val="2e0bad"/>
                </a:solidFill>
                <a:latin typeface="华文中宋"/>
                <a:ea typeface="华文中宋"/>
              </a:rPr>
              <a:t>39</a:t>
            </a:r>
            <a:r>
              <a:rPr b="1" lang="zh-CN" sz="2800" spc="-1" strike="noStrike">
                <a:solidFill>
                  <a:srgbClr val="2e0bad"/>
                </a:solidFill>
                <a:latin typeface="华文中宋"/>
                <a:ea typeface="华文中宋"/>
              </a:rPr>
              <a:t>岁国会议员连任失败，</a:t>
            </a:r>
            <a:r>
              <a:rPr b="1" lang="zh-CN" sz="2800" spc="-1" strike="noStrike">
                <a:solidFill>
                  <a:srgbClr val="2e0bad"/>
                </a:solidFill>
                <a:latin typeface="华文中宋"/>
                <a:ea typeface="华文中宋"/>
              </a:rPr>
              <a:t>46</a:t>
            </a:r>
            <a:r>
              <a:rPr b="1" lang="zh-CN" sz="2800" spc="-1" strike="noStrike">
                <a:solidFill>
                  <a:srgbClr val="2e0bad"/>
                </a:solidFill>
                <a:latin typeface="华文中宋"/>
                <a:ea typeface="华文中宋"/>
              </a:rPr>
              <a:t>岁竞选参议员失败，</a:t>
            </a:r>
            <a:r>
              <a:rPr b="1" lang="zh-CN" sz="2800" spc="-1" strike="noStrike">
                <a:solidFill>
                  <a:srgbClr val="2e0bad"/>
                </a:solidFill>
                <a:latin typeface="华文中宋"/>
                <a:ea typeface="华文中宋"/>
              </a:rPr>
              <a:t>47</a:t>
            </a:r>
            <a:r>
              <a:rPr b="1" lang="zh-CN" sz="2800" spc="-1" strike="noStrike">
                <a:solidFill>
                  <a:srgbClr val="2e0bad"/>
                </a:solidFill>
                <a:latin typeface="华文中宋"/>
                <a:ea typeface="华文中宋"/>
              </a:rPr>
              <a:t>岁竞选副总统失败，</a:t>
            </a:r>
            <a:r>
              <a:rPr b="1" lang="zh-CN" sz="2800" spc="-1" strike="noStrike">
                <a:solidFill>
                  <a:srgbClr val="2e0bad"/>
                </a:solidFill>
                <a:latin typeface="华文中宋"/>
                <a:ea typeface="华文中宋"/>
              </a:rPr>
              <a:t>49</a:t>
            </a:r>
            <a:r>
              <a:rPr b="1" lang="zh-CN" sz="2800" spc="-1" strike="noStrike">
                <a:solidFill>
                  <a:srgbClr val="2e0bad"/>
                </a:solidFill>
                <a:latin typeface="华文中宋"/>
                <a:ea typeface="华文中宋"/>
              </a:rPr>
              <a:t>岁竞选参议员再次失败，</a:t>
            </a:r>
            <a:r>
              <a:rPr b="1" lang="zh-CN" sz="2800" spc="-1" strike="noStrike">
                <a:solidFill>
                  <a:srgbClr val="2e0bad"/>
                </a:solidFill>
                <a:latin typeface="华文中宋"/>
                <a:ea typeface="华文中宋"/>
              </a:rPr>
              <a:t>51</a:t>
            </a:r>
            <a:r>
              <a:rPr b="1" lang="zh-CN" sz="2800" spc="-1" strike="noStrike">
                <a:solidFill>
                  <a:srgbClr val="2e0bad"/>
                </a:solidFill>
                <a:latin typeface="华文中宋"/>
                <a:ea typeface="华文中宋"/>
              </a:rPr>
              <a:t>岁终于当选美国总统。这个人就是</a:t>
            </a:r>
            <a:r>
              <a:rPr b="1" lang="zh-CN" sz="2800" spc="-1" strike="noStrike">
                <a:solidFill>
                  <a:srgbClr val="ea2626"/>
                </a:solidFill>
                <a:latin typeface="华文中宋"/>
                <a:ea typeface="华文中宋"/>
              </a:rPr>
              <a:t>林肯</a:t>
            </a:r>
            <a:r>
              <a:rPr b="1" lang="zh-CN" sz="2800" spc="-1" strike="noStrike">
                <a:solidFill>
                  <a:srgbClr val="2e0bad"/>
                </a:solidFill>
                <a:latin typeface="华文中宋"/>
                <a:ea typeface="华文中宋"/>
              </a:rPr>
              <a:t>，是公认的美国历史上最伟大的总统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你熟悉这些漫画人物吗？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           主人公有什么样的共同特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557360"/>
            <a:ext cx="7056360" cy="5097600"/>
          </a:xfrm>
          <a:prstGeom prst="rect">
            <a:avLst/>
          </a:prstGeom>
          <a:ln w="0">
            <a:noFill/>
          </a:ln>
        </p:spPr>
      </p:pic>
      <p:pic>
        <p:nvPicPr>
          <p:cNvPr id="173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835280" y="1557360"/>
            <a:ext cx="6913440" cy="5184720"/>
          </a:xfrm>
          <a:prstGeom prst="rect">
            <a:avLst/>
          </a:prstGeom>
          <a:ln w="0">
            <a:noFill/>
          </a:ln>
        </p:spPr>
      </p:pic>
      <p:pic>
        <p:nvPicPr>
          <p:cNvPr id="173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692360" y="1989000"/>
            <a:ext cx="3335400" cy="3384720"/>
          </a:xfrm>
          <a:prstGeom prst="rect">
            <a:avLst/>
          </a:prstGeom>
          <a:ln w="0">
            <a:noFill/>
          </a:ln>
        </p:spPr>
      </p:pic>
      <p:pic>
        <p:nvPicPr>
          <p:cNvPr id="173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148360" y="3068640"/>
            <a:ext cx="3384360" cy="3529080"/>
          </a:xfrm>
          <a:prstGeom prst="rect">
            <a:avLst/>
          </a:prstGeom>
          <a:ln w="0">
            <a:noFill/>
          </a:ln>
        </p:spPr>
      </p:pic>
      <p:pic>
        <p:nvPicPr>
          <p:cNvPr id="1734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95280" y="1557360"/>
            <a:ext cx="3592440" cy="5229360"/>
          </a:xfrm>
          <a:prstGeom prst="rect">
            <a:avLst/>
          </a:prstGeom>
          <a:ln w="0">
            <a:noFill/>
          </a:ln>
        </p:spPr>
      </p:pic>
      <p:pic>
        <p:nvPicPr>
          <p:cNvPr id="1735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995640" y="1557360"/>
            <a:ext cx="4784760" cy="5229360"/>
          </a:xfrm>
          <a:prstGeom prst="rect">
            <a:avLst/>
          </a:prstGeom>
          <a:ln w="0">
            <a:noFill/>
          </a:ln>
        </p:spPr>
      </p:pic>
      <p:pic>
        <p:nvPicPr>
          <p:cNvPr id="1736" name="" descr=""/>
          <p:cNvPicPr/>
          <p:nvPr/>
        </p:nvPicPr>
        <p:blipFill>
          <a:blip r:embed="rId13"/>
          <a:stretch/>
        </p:blipFill>
        <p:spPr>
          <a:xfrm>
            <a:off x="3654360" y="1587600"/>
            <a:ext cx="5238720" cy="3929040"/>
          </a:xfrm>
          <a:prstGeom prst="rect">
            <a:avLst/>
          </a:prstGeom>
          <a:ln w="0">
            <a:noFill/>
          </a:ln>
        </p:spPr>
      </p:pic>
      <p:pic>
        <p:nvPicPr>
          <p:cNvPr id="1737" name="" descr=""/>
          <p:cNvPicPr/>
          <p:nvPr/>
        </p:nvPicPr>
        <p:blipFill>
          <a:blip r:embed="rId14"/>
          <a:stretch/>
        </p:blipFill>
        <p:spPr>
          <a:xfrm>
            <a:off x="395280" y="1557360"/>
            <a:ext cx="4176720" cy="5300640"/>
          </a:xfrm>
          <a:prstGeom prst="rect">
            <a:avLst/>
          </a:prstGeom>
          <a:ln w="0">
            <a:noFill/>
          </a:ln>
        </p:spPr>
      </p:pic>
      <p:pic>
        <p:nvPicPr>
          <p:cNvPr id="1738" name="" descr=""/>
          <p:cNvPicPr/>
          <p:nvPr/>
        </p:nvPicPr>
        <p:blipFill>
          <a:blip r:embed="rId15"/>
          <a:stretch/>
        </p:blipFill>
        <p:spPr>
          <a:xfrm>
            <a:off x="395280" y="1557360"/>
            <a:ext cx="8424720" cy="5189400"/>
          </a:xfrm>
          <a:prstGeom prst="rect">
            <a:avLst/>
          </a:prstGeom>
          <a:ln w="0">
            <a:noFill/>
          </a:ln>
        </p:spPr>
      </p:pic>
      <p:pic>
        <p:nvPicPr>
          <p:cNvPr id="1739" name="" descr=""/>
          <p:cNvPicPr/>
          <p:nvPr/>
        </p:nvPicPr>
        <p:blipFill>
          <a:blip r:embed="rId16"/>
          <a:stretch/>
        </p:blipFill>
        <p:spPr>
          <a:xfrm>
            <a:off x="395280" y="1557360"/>
            <a:ext cx="8424720" cy="5300640"/>
          </a:xfrm>
          <a:prstGeom prst="rect">
            <a:avLst/>
          </a:prstGeom>
          <a:ln w="0">
            <a:noFill/>
          </a:ln>
        </p:spPr>
      </p:pic>
      <p:sp>
        <p:nvSpPr>
          <p:cNvPr id="1740" name=""/>
          <p:cNvSpPr/>
          <p:nvPr/>
        </p:nvSpPr>
        <p:spPr>
          <a:xfrm>
            <a:off x="7093080" y="404640"/>
            <a:ext cx="863640" cy="43200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8406"/>
                </a:moveTo>
                <a:lnTo>
                  <a:pt x="19006" y="8406"/>
                </a:lnTo>
                <a:lnTo>
                  <a:pt x="23427" y="3794"/>
                </a:lnTo>
                <a:lnTo>
                  <a:pt x="23427" y="17806"/>
                </a:lnTo>
                <a:lnTo>
                  <a:pt x="19006" y="13194"/>
                </a:lnTo>
                <a:lnTo>
                  <a:pt x="14576" y="13194"/>
                </a:lnTo>
                <a:close/>
              </a:path>
              <a:path fill="darken" w="43164" h="21600">
                <a:moveTo>
                  <a:pt x="25081" y="10800"/>
                </a:moveTo>
                <a:lnTo>
                  <a:pt x="28588" y="10800"/>
                </a:lnTo>
              </a:path>
              <a:path fill="darken" w="43164" h="21600">
                <a:moveTo>
                  <a:pt x="25081" y="8406"/>
                </a:moveTo>
                <a:lnTo>
                  <a:pt x="28588" y="5639"/>
                </a:lnTo>
              </a:path>
              <a:path fill="darken" w="43164" h="21600">
                <a:moveTo>
                  <a:pt x="25081" y="13194"/>
                </a:moveTo>
                <a:lnTo>
                  <a:pt x="28588" y="15961"/>
                </a:lnTo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1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5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1000"/>
                                        <p:tgtEl>
                                          <p:spTgt spid="1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10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1" name="" descr=""/>
          <p:cNvPicPr/>
          <p:nvPr/>
        </p:nvPicPr>
        <p:blipFill>
          <a:blip r:embed="rId1"/>
          <a:srcRect l="1001" t="16670" r="3000" b="86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2" name=""/>
          <p:cNvSpPr/>
          <p:nvPr/>
        </p:nvSpPr>
        <p:spPr>
          <a:xfrm>
            <a:off x="457200" y="3808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395280" y="3164040"/>
            <a:ext cx="8496360" cy="165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2626"/>
                </a:solidFill>
                <a:latin typeface="Times New Roman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ea2626"/>
                </a:solidFill>
                <a:latin typeface="Times New Roman"/>
                <a:ea typeface="华文中宋"/>
              </a:rPr>
              <a:t>对联：不思八九，常想一二。（横批：如意）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1311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2e0bad"/>
                </a:solidFill>
                <a:latin typeface="Times New Roman"/>
                <a:ea typeface="华文中宋"/>
              </a:rPr>
              <a:t>常言道：人生不如意常八九。倘若心为物役，患得患失，就只会被悲观、绝望窒息心智，人生的路途注定是如负重登山、举步维艰了。常想一、二，就是用心感恩，庆幸、珍惜人生中那如意的十之一二，最终以那份豁达与坚韧去化解并超越苦难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539640" y="554040"/>
            <a:ext cx="81536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f1311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2f1311"/>
                </a:solidFill>
                <a:latin typeface="Times New Roman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2f1311"/>
                </a:solidFill>
                <a:latin typeface="Times New Roman"/>
                <a:ea typeface="华文中宋"/>
              </a:rPr>
              <a:t>人们深受感动的，并不是因为他曾经的苦难，而是他直面苦难时的坚守、乐观和勇气。人生如花开花谢，潮起潮落，有得便有失，有苦也有乐。如果谁总自以为失去的太多，总受到这个意念的折磨，谁才是最不幸的人。”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中段考定于第十周末开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900000" y="2349360"/>
            <a:ext cx="7488360" cy="15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f1311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2e0bad"/>
                </a:solidFill>
                <a:latin typeface="华文中宋"/>
                <a:ea typeface="华文中宋"/>
              </a:rPr>
              <a:t>检验我们的时候又快来了。考试不仅想证明我们的学习能力，更重要是有什么样学习态度。去计划一下自己的复习吧，定一个理想的目标，不要担心什么失败。把考试也当作磨练意志的一场锻炼，为两年后的战役做个准备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1311"/>
                </a:solidFill>
                <a:latin typeface="华文中宋"/>
                <a:ea typeface="华文中宋"/>
              </a:rPr>
              <a:t>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7380360" y="620640"/>
            <a:ext cx="863640" cy="647640"/>
          </a:xfrm>
          <a:custGeom>
            <a:avLst/>
            <a:gdLst>
              <a:gd name="textAreaLeft" fmla="*/ 41760 w 863640"/>
              <a:gd name="textAreaRight" fmla="*/ 821880 w 863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8406"/>
                </a:moveTo>
                <a:lnTo>
                  <a:pt x="11824" y="8406"/>
                </a:lnTo>
                <a:lnTo>
                  <a:pt x="16245" y="3794"/>
                </a:lnTo>
                <a:lnTo>
                  <a:pt x="16245" y="17806"/>
                </a:lnTo>
                <a:lnTo>
                  <a:pt x="11824" y="13194"/>
                </a:lnTo>
                <a:lnTo>
                  <a:pt x="7394" y="13194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21406" y="10800"/>
                </a:lnTo>
              </a:path>
              <a:path fill="darken" w="28800" h="21600">
                <a:moveTo>
                  <a:pt x="17899" y="8406"/>
                </a:moveTo>
                <a:lnTo>
                  <a:pt x="21406" y="5639"/>
                </a:lnTo>
              </a:path>
              <a:path fill="darken" w="28800" h="21600">
                <a:moveTo>
                  <a:pt x="17899" y="13194"/>
                </a:moveTo>
                <a:lnTo>
                  <a:pt x="21406" y="15961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2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395280" y="333360"/>
            <a:ext cx="8424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1311"/>
                </a:solidFill>
                <a:latin typeface="华文中宋"/>
                <a:ea typeface="华文中宋"/>
              </a:rPr>
              <a:t>      </a:t>
            </a:r>
            <a:r>
              <a:rPr b="1" lang="zh-CN" sz="3200" spc="-1" strike="noStrike">
                <a:solidFill>
                  <a:srgbClr val="456867"/>
                </a:solidFill>
                <a:latin typeface="华文中宋"/>
                <a:ea typeface="华文中宋"/>
              </a:rPr>
              <a:t>无失败，就无所谓成功，关键是看我们对于失败的态度。而生活就是要面对失败和挫折。当你一蹶不振而悲观失望时，切记失败是成功之母，几次碰壁也算不了什么，人生后边的路还很长很长。项羽当年一败涂地、自刎乌江，无脸见江东父老。若干年后，杜牧游此地时题下了“胜败兵家事不期，包羞忍耻是男儿。江东子弟多才俊，卷土重来未可知”的诗句，在杜牧看来，项羽回去重新起兵，也许有朝一日东山再起。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/>
          </p:nvPr>
        </p:nvSpPr>
        <p:spPr>
          <a:xfrm>
            <a:off x="2438280" y="906480"/>
            <a:ext cx="640080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从本周起直到中段考，这个月班里将开展一个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“学习月”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活动。由班干部记录每个同学的表现，如</a:t>
            </a:r>
            <a:r>
              <a:rPr b="1" lang="zh-CN" sz="3600" spc="-1" strike="noStrike">
                <a:solidFill>
                  <a:srgbClr val="2e0bad"/>
                </a:solidFill>
                <a:latin typeface="华文中宋"/>
                <a:ea typeface="华文中宋"/>
              </a:rPr>
              <a:t>回答问题、迟到、未交作业的情况等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作为加减分的依据。每周公布一次结果，中段考后进行统计，得分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前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20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名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同学和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后十名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同学将有相应的奖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2050920" y="836280"/>
            <a:ext cx="64008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e0bad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2e0bad"/>
                </a:solidFill>
                <a:latin typeface="华文中宋"/>
                <a:ea typeface="华文中宋"/>
              </a:rPr>
              <a:t>让我们用行动和热情证明自己的能力吧，来实现</a:t>
            </a:r>
            <a:r>
              <a:rPr b="1" lang="zh-CN" sz="3200" spc="-1" strike="noStrike">
                <a:solidFill>
                  <a:srgbClr val="2e0bad"/>
                </a:solidFill>
                <a:latin typeface="华文中宋"/>
                <a:ea typeface="华文中宋"/>
              </a:rPr>
              <a:t>9</a:t>
            </a:r>
            <a:r>
              <a:rPr b="1" lang="zh-CN" sz="3200" spc="-1" strike="noStrike">
                <a:solidFill>
                  <a:srgbClr val="2e0bad"/>
                </a:solidFill>
                <a:latin typeface="华文中宋"/>
                <a:ea typeface="华文中宋"/>
              </a:rPr>
              <a:t>班的辉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我们应该是最棒的，加油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4" name="" descr=""/>
          <p:cNvPicPr/>
          <p:nvPr/>
        </p:nvPicPr>
        <p:blipFill>
          <a:blip r:embed="rId1"/>
          <a:stretch/>
        </p:blipFill>
        <p:spPr>
          <a:xfrm>
            <a:off x="2484360" y="3357720"/>
            <a:ext cx="2951280" cy="3095640"/>
          </a:xfrm>
          <a:prstGeom prst="rect">
            <a:avLst/>
          </a:prstGeom>
          <a:ln w="0">
            <a:noFill/>
          </a:ln>
        </p:spPr>
      </p:pic>
      <p:pic>
        <p:nvPicPr>
          <p:cNvPr id="1755" name="" descr=""/>
          <p:cNvPicPr/>
          <p:nvPr/>
        </p:nvPicPr>
        <p:blipFill>
          <a:blip r:embed="rId2"/>
          <a:stretch/>
        </p:blipFill>
        <p:spPr>
          <a:xfrm>
            <a:off x="5651640" y="3357720"/>
            <a:ext cx="302400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611280" y="45396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 Black"/>
                <a:ea typeface="华文中宋"/>
              </a:rPr>
              <a:t>一个让人不安的现象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10800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华文中宋"/>
              </a:rPr>
              <a:t>开学以来，班里因为几次流感的发作，相当多的人生病，伴随而来的是请假的高峰。这本是正常的现象，但让人感到不安的是，不少同学稍有不适就请假回宿舍休息，或者外出就医，晚自修时教室中留下空荡荡的桌椅。我深深地感觉，同学们越来越娇气了，而且男同学在这方面还要落后于女同学…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2f1311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dc2222"/>
                </a:solidFill>
                <a:latin typeface="Arial"/>
                <a:ea typeface="华文中宋"/>
              </a:rPr>
              <a:t>坚强——美好的品德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3313080" y="2389320"/>
            <a:ext cx="5796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2e0bad"/>
                </a:solidFill>
                <a:latin typeface="Arial"/>
                <a:ea typeface="华文中宋"/>
              </a:rPr>
              <a:t>人和动物的区别，一个显著的地方是人具有很强的主观能动性，能够通过控制自己的行为来完成不可思议的事情。</a:t>
            </a:r>
            <a:r>
              <a:rPr b="1" lang="zh-CN" sz="2800" spc="-1" strike="noStrike">
                <a:solidFill>
                  <a:srgbClr val="dc2222"/>
                </a:solidFill>
                <a:latin typeface="Arial"/>
                <a:ea typeface="华文中宋"/>
              </a:rPr>
              <a:t>坚强</a:t>
            </a:r>
            <a:r>
              <a:rPr b="1" lang="zh-CN" sz="2800" spc="-1" strike="noStrike">
                <a:solidFill>
                  <a:srgbClr val="2e0bad"/>
                </a:solidFill>
                <a:latin typeface="Arial"/>
                <a:ea typeface="华文中宋"/>
              </a:rPr>
              <a:t>是人最美好的品德之一，是古往今来一切成功人物所共同具备的优点。如果说坚强也是一种能力的话，那就需要你去</a:t>
            </a:r>
            <a:r>
              <a:rPr b="1" lang="zh-CN" sz="2800" spc="-1" strike="noStrike">
                <a:solidFill>
                  <a:srgbClr val="ea2626"/>
                </a:solidFill>
                <a:latin typeface="Arial"/>
                <a:ea typeface="华文中宋"/>
              </a:rPr>
              <a:t>刻意的锻炼</a:t>
            </a:r>
            <a:r>
              <a:rPr b="1" lang="zh-CN" sz="2800" spc="-1" strike="noStrike">
                <a:solidFill>
                  <a:srgbClr val="2e0bad"/>
                </a:solidFill>
                <a:latin typeface="Arial"/>
                <a:ea typeface="华文中宋"/>
              </a:rPr>
              <a:t>它，而不是逃避它！！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03" name="" descr=""/>
          <p:cNvPicPr/>
          <p:nvPr/>
        </p:nvPicPr>
        <p:blipFill>
          <a:blip r:embed="rId1"/>
          <a:stretch/>
        </p:blipFill>
        <p:spPr>
          <a:xfrm>
            <a:off x="322200" y="2852640"/>
            <a:ext cx="3313080" cy="3024360"/>
          </a:xfrm>
          <a:prstGeom prst="rect">
            <a:avLst/>
          </a:prstGeom>
          <a:ln w="0">
            <a:noFill/>
          </a:ln>
        </p:spPr>
      </p:pic>
      <p:sp>
        <p:nvSpPr>
          <p:cNvPr id="1704" name=""/>
          <p:cNvSpPr/>
          <p:nvPr/>
        </p:nvSpPr>
        <p:spPr>
          <a:xfrm>
            <a:off x="7740720" y="47628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8406"/>
                </a:moveTo>
                <a:lnTo>
                  <a:pt x="10390" y="8406"/>
                </a:lnTo>
                <a:lnTo>
                  <a:pt x="14812" y="3794"/>
                </a:lnTo>
                <a:lnTo>
                  <a:pt x="14812" y="17806"/>
                </a:lnTo>
                <a:lnTo>
                  <a:pt x="10390" y="13194"/>
                </a:lnTo>
                <a:lnTo>
                  <a:pt x="5960" y="13194"/>
                </a:lnTo>
                <a:close/>
              </a:path>
              <a:path fill="darken" w="25933" h="21600">
                <a:moveTo>
                  <a:pt x="16465" y="10800"/>
                </a:moveTo>
                <a:lnTo>
                  <a:pt x="19973" y="10800"/>
                </a:lnTo>
              </a:path>
              <a:path fill="darken" w="25933" h="21600">
                <a:moveTo>
                  <a:pt x="16465" y="8406"/>
                </a:moveTo>
                <a:lnTo>
                  <a:pt x="19973" y="5639"/>
                </a:lnTo>
              </a:path>
              <a:path fill="darken" w="25933" h="21600">
                <a:moveTo>
                  <a:pt x="16465" y="13194"/>
                </a:moveTo>
                <a:lnTo>
                  <a:pt x="19973" y="15961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799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799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99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799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/>
          </p:nvPr>
        </p:nvSpPr>
        <p:spPr>
          <a:xfrm>
            <a:off x="331920" y="779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zh-CN" sz="3200" spc="-1" strike="noStrike">
                <a:solidFill>
                  <a:srgbClr val="2e0bad"/>
                </a:solidFill>
                <a:latin typeface="Comic Sans MS"/>
                <a:ea typeface="华文中宋"/>
              </a:rPr>
              <a:t>以生病为例，根据医学研究，人所得的疾病中有三分之二能自然消失，也就是会自己好掉，这得益于身体的抵抗能力。但这种能力就像宝剑，越用越锋利，反之则会生锈，还会对药物产生可怕的依赖作用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6" name=""/>
          <p:cNvSpPr/>
          <p:nvPr/>
        </p:nvSpPr>
        <p:spPr>
          <a:xfrm>
            <a:off x="611280" y="3860640"/>
            <a:ext cx="7993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我在上大学以前，觉得自己做得最好的地方，不是成绩或是读了多少本书，而是我从来没有因为生病去请假而耽误学习，也没有迟到过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                        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我很自豪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举几个伟大人物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坚强品格的例子吧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791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zh-CN" sz="3200" spc="-1" strike="noStrike">
                <a:solidFill>
                  <a:srgbClr val="2e0bad"/>
                </a:solidFill>
                <a:latin typeface="华文中宋"/>
                <a:ea typeface="华文中宋"/>
              </a:rPr>
              <a:t>上个世纪初，一个</a:t>
            </a:r>
            <a:r>
              <a:rPr b="1" lang="zh-CN" sz="3200" spc="-1" strike="noStrike">
                <a:solidFill>
                  <a:srgbClr val="2e0bad"/>
                </a:solidFill>
                <a:latin typeface="华文中宋"/>
                <a:ea typeface="华文中宋"/>
              </a:rPr>
              <a:t>10</a:t>
            </a:r>
            <a:r>
              <a:rPr b="1" lang="zh-CN" sz="3200" spc="-1" strike="noStrike">
                <a:solidFill>
                  <a:srgbClr val="2e0bad"/>
                </a:solidFill>
                <a:latin typeface="华文中宋"/>
                <a:ea typeface="华文中宋"/>
              </a:rPr>
              <a:t>岁的小男孩随父母到乡下为祖母过寿，玩耍时意外摔伤了腿。为了不影响大人们的活动，他默默忍受着痛楚。直到快回家时昏倒在地，其他人才知道伤势有多么严重。这个倔强地小男孩长大后考上了西点军校，后来作为盟军最高统帅在第二次世界大战中指挥打败了希特勒，还当上美国总统，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他就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846440"/>
            <a:ext cx="3470040" cy="4319280"/>
          </a:xfrm>
          <a:prstGeom prst="rect">
            <a:avLst/>
          </a:prstGeom>
          <a:ln w="0">
            <a:noFill/>
          </a:ln>
        </p:spPr>
      </p:pic>
      <p:pic>
        <p:nvPicPr>
          <p:cNvPr id="171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1916280"/>
            <a:ext cx="4321080" cy="4267080"/>
          </a:xfrm>
          <a:prstGeom prst="rect">
            <a:avLst/>
          </a:prstGeom>
          <a:ln w="0">
            <a:noFill/>
          </a:ln>
        </p:spPr>
      </p:pic>
      <p:sp>
        <p:nvSpPr>
          <p:cNvPr id="1711" name=""/>
          <p:cNvSpPr/>
          <p:nvPr/>
        </p:nvSpPr>
        <p:spPr>
          <a:xfrm>
            <a:off x="3872880" y="2084400"/>
            <a:ext cx="455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200"/>
                </a:solidFill>
                <a:latin typeface="Arial"/>
                <a:ea typeface="华文中宋"/>
              </a:rPr>
              <a:t>艾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200"/>
                </a:solidFill>
                <a:latin typeface="Arial"/>
                <a:ea typeface="华文中宋"/>
              </a:rPr>
              <a:t>森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200"/>
                </a:solidFill>
                <a:latin typeface="Arial"/>
                <a:ea typeface="华文中宋"/>
              </a:rPr>
              <a:t>豪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200"/>
                </a:solidFill>
                <a:latin typeface="Arial"/>
                <a:ea typeface="华文中宋"/>
              </a:rPr>
              <a:t>威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200"/>
                </a:solidFill>
                <a:latin typeface="Arial"/>
                <a:ea typeface="华文中宋"/>
              </a:rPr>
              <a:t>尔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200"/>
                </a:solidFill>
                <a:latin typeface="Arial"/>
                <a:ea typeface="华文中宋"/>
              </a:rPr>
              <a:t>将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200"/>
                </a:solidFill>
                <a:latin typeface="Arial"/>
                <a:ea typeface="华文中宋"/>
              </a:rPr>
              <a:t>军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1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5" dur="500"/>
                                        <p:tgtEl>
                                          <p:spTgt spid="1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100008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Arial"/>
                <a:ea typeface="华文行楷"/>
              </a:rPr>
              <a:t>　　轮椅上的总统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14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3948120" cy="5300640"/>
          </a:xfrm>
          <a:prstGeom prst="rect">
            <a:avLst/>
          </a:prstGeom>
          <a:ln w="0">
            <a:noFill/>
          </a:ln>
        </p:spPr>
      </p:pic>
      <p:pic>
        <p:nvPicPr>
          <p:cNvPr id="171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19640" y="3429000"/>
            <a:ext cx="2664000" cy="2881440"/>
          </a:xfrm>
          <a:prstGeom prst="rect">
            <a:avLst/>
          </a:prstGeom>
          <a:ln w="0">
            <a:noFill/>
          </a:ln>
        </p:spPr>
      </p:pic>
      <p:sp>
        <p:nvSpPr>
          <p:cNvPr id="1716" name=""/>
          <p:cNvSpPr/>
          <p:nvPr/>
        </p:nvSpPr>
        <p:spPr>
          <a:xfrm>
            <a:off x="4696200" y="1340640"/>
            <a:ext cx="354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2626"/>
                </a:solidFill>
                <a:latin typeface="华文中宋"/>
                <a:ea typeface="华文中宋"/>
              </a:rPr>
              <a:t>富兰克林．罗斯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2626"/>
                </a:solidFill>
                <a:latin typeface="华文中宋"/>
                <a:ea typeface="华文中宋"/>
              </a:rPr>
              <a:t>(1882</a:t>
            </a:r>
            <a:r>
              <a:rPr b="1" lang="zh-CN" sz="3200" spc="-1" strike="noStrike">
                <a:solidFill>
                  <a:srgbClr val="ea2626"/>
                </a:solidFill>
                <a:latin typeface="华文中宋"/>
                <a:ea typeface="华文中宋"/>
              </a:rPr>
              <a:t>年～</a:t>
            </a:r>
            <a:r>
              <a:rPr b="1" lang="zh-CN" sz="3200" spc="-1" strike="noStrike">
                <a:solidFill>
                  <a:srgbClr val="ea2626"/>
                </a:solidFill>
                <a:latin typeface="华文中宋"/>
                <a:ea typeface="华文中宋"/>
              </a:rPr>
              <a:t>1945</a:t>
            </a:r>
            <a:r>
              <a:rPr b="1" lang="zh-CN" sz="3200" spc="-1" strike="noStrike">
                <a:solidFill>
                  <a:srgbClr val="ea2626"/>
                </a:solidFill>
                <a:latin typeface="华文中宋"/>
                <a:ea typeface="华文中宋"/>
              </a:rPr>
              <a:t>年</a:t>
            </a:r>
            <a:r>
              <a:rPr b="1" lang="zh-CN" sz="3200" spc="-1" strike="noStrike">
                <a:solidFill>
                  <a:srgbClr val="ea2626"/>
                </a:solidFill>
                <a:latin typeface="华文中宋"/>
                <a:ea typeface="华文中宋"/>
              </a:rPr>
              <a:t>)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4284720" y="2560680"/>
            <a:ext cx="47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华文中宋"/>
                <a:ea typeface="华文中宋"/>
              </a:rPr>
              <a:t>美国政治家，战略家。历史上唯一蝉联四届的总统 ．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10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10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10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10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/>
          </p:nvPr>
        </p:nvSpPr>
        <p:spPr>
          <a:xfrm>
            <a:off x="-252360" y="601560"/>
            <a:ext cx="9144000" cy="41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华文中宋"/>
              </a:rPr>
              <a:t>罗斯福得过小儿麻痹症，但并不严重，走路稍有不便。后来他全家在加拿大的一个小岛上度假时，发现另一个小岛森林失火，他率领全家上岸参加灭火，过度疲劳后，又跳入冰冷的湖水中游泳，第二天发现左腿麻痹，全身发烧，不能行动。当时不少人认为这是不治之症，能保住性命就不错了，预言他的政治生涯就此结束。然而，罗斯福却没有在命运前屈服，他说：“我就不相信这种娃娃病能整倒一个堂堂男子汉，我要战胜它！”他用双手从一个房间爬到另一个房间，在地板上同两个儿子摔跤。正是凭着不屈不挠的精神和顽强不息的意志，他终于借着手杖站起来了，并坐着轮椅又走上了政治舞台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97" fill="hold"/>
                                        <p:tgtEl>
                                          <p:spTgt spid="1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c2222"/>
                </a:solidFill>
                <a:latin typeface="华文中宋"/>
                <a:ea typeface="华文中宋"/>
              </a:rPr>
              <a:t>                       </a:t>
            </a:r>
            <a:r>
              <a:rPr b="1" lang="zh-CN" sz="4800" spc="-1" strike="noStrike">
                <a:solidFill>
                  <a:srgbClr val="dc2222"/>
                </a:solidFill>
                <a:latin typeface="华文中宋"/>
                <a:ea typeface="华文中宋"/>
              </a:rPr>
              <a:t>军   神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25092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70</a:t>
            </a:r>
            <a:r>
              <a:rPr b="1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多年前，有个德国医生在中国开了家诊所，一天来了一位年轻的军官看眼伤。伤势很重，需要立刻动手术，但这个军人却拒绝打麻药，他担心麻药会影响大脑，不利于军事指挥。于是手术在他清醒地情况下开始了，医生紧张的满头大汗，但这位军人却没有呻吟，而是数着医生的刀数，总共十三刀。医生非常感慨，说：“要是在我们德国，你就是一尊会说话的雕塑，是军神……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1341360"/>
            <a:ext cx="3671640" cy="5256360"/>
          </a:xfrm>
          <a:prstGeom prst="rect">
            <a:avLst/>
          </a:prstGeom>
          <a:ln w="0">
            <a:noFill/>
          </a:ln>
        </p:spPr>
      </p:pic>
      <p:pic>
        <p:nvPicPr>
          <p:cNvPr id="172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2932200"/>
            <a:ext cx="3960720" cy="3449520"/>
          </a:xfrm>
          <a:prstGeom prst="rect">
            <a:avLst/>
          </a:prstGeom>
          <a:ln w="0">
            <a:noFill/>
          </a:ln>
        </p:spPr>
      </p:pic>
      <p:sp>
        <p:nvSpPr>
          <p:cNvPr id="1723" name=""/>
          <p:cNvSpPr/>
          <p:nvPr/>
        </p:nvSpPr>
        <p:spPr>
          <a:xfrm>
            <a:off x="682560" y="1078920"/>
            <a:ext cx="410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e0bad"/>
                </a:solidFill>
                <a:latin typeface="华文中宋"/>
                <a:ea typeface="华文中宋"/>
              </a:rPr>
              <a:t>           </a:t>
            </a:r>
            <a:r>
              <a:rPr b="1" lang="zh-CN" sz="3200" spc="-1" strike="noStrike">
                <a:solidFill>
                  <a:srgbClr val="2e0bad"/>
                </a:solidFill>
                <a:latin typeface="华文中宋"/>
                <a:ea typeface="华文中宋"/>
              </a:rPr>
              <a:t>刘伯承元帅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e0bad"/>
                </a:solidFill>
                <a:latin typeface="华文中宋"/>
                <a:ea typeface="华文中宋"/>
              </a:rPr>
              <a:t>          </a:t>
            </a:r>
            <a:r>
              <a:rPr b="1" lang="zh-CN" sz="3200" spc="-1" strike="noStrike">
                <a:solidFill>
                  <a:srgbClr val="2e0bad"/>
                </a:solidFill>
                <a:latin typeface="华文中宋"/>
                <a:ea typeface="华文中宋"/>
              </a:rPr>
              <a:t>(1892-1986)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e0bad"/>
                </a:solidFill>
                <a:latin typeface="华文中宋"/>
                <a:ea typeface="华文中宋"/>
              </a:rPr>
              <a:t>中国人民解放军创建人和领导人之一。</a:t>
            </a:r>
            <a:r>
              <a:rPr b="0" lang="zh-CN" sz="2800" spc="-1" strike="noStrike">
                <a:solidFill>
                  <a:srgbClr val="2e0ba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1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1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519120" y="72684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000" spc="-1" strike="noStrike">
                <a:solidFill>
                  <a:srgbClr val="2e0bad"/>
                </a:solidFill>
                <a:latin typeface="华文中宋"/>
                <a:ea typeface="华文中宋"/>
              </a:rPr>
              <a:t>还有</a:t>
            </a:r>
            <a:r>
              <a:rPr b="1" lang="zh-CN" sz="3000" spc="-1" strike="noStrike" u="sng">
                <a:solidFill>
                  <a:srgbClr val="2e0bad"/>
                </a:solidFill>
                <a:uFillTx/>
                <a:latin typeface="华文中宋"/>
                <a:ea typeface="华文中宋"/>
              </a:rPr>
              <a:t>海伦．凯乐、张海迪</a:t>
            </a:r>
            <a:r>
              <a:rPr b="1" lang="zh-CN" sz="3000" spc="-1" strike="noStrike">
                <a:solidFill>
                  <a:srgbClr val="2e0bad"/>
                </a:solidFill>
                <a:latin typeface="华文中宋"/>
                <a:ea typeface="华文中宋"/>
              </a:rPr>
              <a:t>、俄国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2e0bad"/>
                </a:solidFill>
                <a:latin typeface="华文中宋"/>
                <a:ea typeface="华文中宋"/>
              </a:rPr>
              <a:t>   </a:t>
            </a:r>
            <a:r>
              <a:rPr b="1" lang="zh-CN" sz="3000" spc="-1" strike="noStrike" u="sng">
                <a:solidFill>
                  <a:srgbClr val="2e0bad"/>
                </a:solidFill>
                <a:uFillTx/>
                <a:latin typeface="华文中宋"/>
                <a:ea typeface="华文中宋"/>
              </a:rPr>
              <a:t>奥斯特洛夫斯基</a:t>
            </a:r>
            <a:r>
              <a:rPr b="1" lang="zh-CN" sz="3000" spc="-1" strike="noStrike">
                <a:solidFill>
                  <a:srgbClr val="2e0bad"/>
                </a:solidFill>
                <a:latin typeface="华文中宋"/>
                <a:ea typeface="华文中宋"/>
              </a:rPr>
              <a:t>……，这样的人物举不胜举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</a:t>
            </a:r>
            <a:r>
              <a:rPr b="1" lang="zh-CN" sz="3000" spc="-1" strike="noStrike">
                <a:solidFill>
                  <a:srgbClr val="456867"/>
                </a:solidFill>
                <a:latin typeface="华文中宋"/>
                <a:ea typeface="华文中宋"/>
              </a:rPr>
              <a:t>坚强，不光表现在对待病痛的态度上，还可以 从生活中的点点滴滴折射出来。有了这样的精神，你可以向很多不好的习惯 </a:t>
            </a:r>
            <a:r>
              <a:rPr b="1" lang="zh-CN" sz="3000" spc="-1" strike="noStrike">
                <a:solidFill>
                  <a:srgbClr val="456867"/>
                </a:solidFill>
                <a:latin typeface="华文中宋"/>
                <a:ea typeface="华文中宋"/>
              </a:rPr>
              <a:t>SAY NO</a:t>
            </a:r>
            <a:r>
              <a:rPr b="1" lang="zh-CN" sz="3000" spc="-1" strike="noStrike">
                <a:solidFill>
                  <a:srgbClr val="456867"/>
                </a:solidFill>
                <a:latin typeface="华文中宋"/>
                <a:ea typeface="华文中宋"/>
              </a:rPr>
              <a:t>。比如说早上起不来，能不能去强迫自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56867"/>
                </a:solidFill>
                <a:latin typeface="华文中宋"/>
                <a:ea typeface="华文中宋"/>
              </a:rPr>
              <a:t>                    </a:t>
            </a:r>
            <a:r>
              <a:rPr b="1" lang="zh-CN" sz="3000" spc="-1" strike="noStrike">
                <a:solidFill>
                  <a:srgbClr val="456867"/>
                </a:solidFill>
                <a:latin typeface="华文中宋"/>
                <a:ea typeface="华文中宋"/>
              </a:rPr>
              <a:t>己一下；比如上课迟到，能不能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56867"/>
                </a:solidFill>
                <a:latin typeface="华文中宋"/>
                <a:ea typeface="华文中宋"/>
              </a:rPr>
              <a:t>                    </a:t>
            </a:r>
            <a:r>
              <a:rPr b="1" lang="zh-CN" sz="3000" spc="-1" strike="noStrike">
                <a:solidFill>
                  <a:srgbClr val="456867"/>
                </a:solidFill>
                <a:latin typeface="华文中宋"/>
                <a:ea typeface="华文中宋"/>
              </a:rPr>
              <a:t>提前五分钟出发；还比如遇到难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56867"/>
                </a:solidFill>
                <a:latin typeface="华文中宋"/>
                <a:ea typeface="华文中宋"/>
              </a:rPr>
              <a:t>                    </a:t>
            </a:r>
            <a:r>
              <a:rPr b="1" lang="zh-CN" sz="3000" spc="-1" strike="noStrike">
                <a:solidFill>
                  <a:srgbClr val="456867"/>
                </a:solidFill>
                <a:latin typeface="华文中宋"/>
                <a:ea typeface="华文中宋"/>
              </a:rPr>
              <a:t>题，考试出现失误后的灰心丧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56867"/>
                </a:solidFill>
                <a:latin typeface="华文中宋"/>
                <a:ea typeface="华文中宋"/>
              </a:rPr>
              <a:t>                    </a:t>
            </a:r>
            <a:r>
              <a:rPr b="1" lang="zh-CN" sz="3000" spc="-1" strike="noStrike">
                <a:solidFill>
                  <a:srgbClr val="456867"/>
                </a:solidFill>
                <a:latin typeface="华文中宋"/>
                <a:ea typeface="华文中宋"/>
              </a:rPr>
              <a:t>气……你能不能也少一些抱怨和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56867"/>
                </a:solidFill>
                <a:latin typeface="华文中宋"/>
                <a:ea typeface="华文中宋"/>
              </a:rPr>
              <a:t>                    </a:t>
            </a:r>
            <a:r>
              <a:rPr b="1" lang="zh-CN" sz="3000" spc="-1" strike="noStrike">
                <a:solidFill>
                  <a:srgbClr val="456867"/>
                </a:solidFill>
                <a:latin typeface="华文中宋"/>
                <a:ea typeface="华文中宋"/>
              </a:rPr>
              <a:t>借口，去挑战所谓的“困难”</a:t>
            </a:r>
            <a:r>
              <a:rPr b="1" lang="zh-CN" sz="3000" spc="-1" strike="noStrike">
                <a:solidFill>
                  <a:srgbClr val="669999"/>
                </a:solidFill>
                <a:latin typeface="华文中宋"/>
                <a:ea typeface="华文中宋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6" name="" descr=""/>
          <p:cNvPicPr/>
          <p:nvPr/>
        </p:nvPicPr>
        <p:blipFill>
          <a:blip r:embed="rId1"/>
          <a:stretch/>
        </p:blipFill>
        <p:spPr>
          <a:xfrm>
            <a:off x="209520" y="3500280"/>
            <a:ext cx="27781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2T12:33:35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0:04:40Z</dcterms:modified>
  <cp:revision>6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